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D9FDBA-4612-45EB-9060-C8AA43FBC9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30560" y="530280"/>
            <a:ext cx="49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Times New Roman"/>
                <a:ea typeface="DejaVu Sans"/>
              </a:rPr>
              <a:t>CE Workgroup Linux Foundation / Embedded Linux Conference Europ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8240" y="1890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DejaVu Sans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7360" y="1539720"/>
            <a:ext cx="17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47320" y="155736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851360" y="5770440"/>
            <a:ext cx="413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578808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400" y="1125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senter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080" y="11253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omas Brown / Brown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1920" y="6004080"/>
            <a:ext cx="32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48200" y="1987560"/>
            <a:ext cx="318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97172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40" y="6006960"/>
            <a:ext cx="25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  <a:ea typeface="DejaVu Sans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1-10-04T22:22:27Z</dcterms:modified>
  <cp:revision>1</cp:revision>
  <dc:subject/>
  <dc:title>スライド 1</dc:title>
</cp:coreProperties>
</file>